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93E0-24BC-4FE0-B9C1-D50D421EF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78C1-B482-47A3-972E-84091648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1369-E16E-44B8-9B1B-07F8A7434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3CEA-163B-415D-BDDF-97FDDE311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3559-A1DA-4C0B-8666-A0736E02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849D-D253-43A4-B6A4-7CE20C91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8945-03E9-4B59-990A-DDDE7CA2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6266-8B1C-40DE-BFFD-AB5D6971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E50D-CCE2-4C71-8937-DAE7BC89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2E72-07EC-4427-86BE-2465E03E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EFCF-2D9E-4A2E-851E-53F08F44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B658-DD71-4872-A36B-A8D338A1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4933-680D-4D7C-9B50-348D3DE85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amsung Omni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5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Micu R</a:t>
            </a:r>
            <a:r>
              <a:rPr b="0" lang="ro-RO" sz="3000" spc="-1" strike="noStrike">
                <a:solidFill>
                  <a:srgbClr val="000000"/>
                </a:solidFill>
                <a:latin typeface="Arial Black"/>
              </a:rPr>
              <a:t>ă</a:t>
            </a: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zv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Arial Black"/>
              </a:rPr>
              <a:t>Ră</a:t>
            </a: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u</a:t>
            </a:r>
            <a:r>
              <a:rPr b="0" lang="ro-RO" sz="3000" spc="-1" strike="noStrike">
                <a:solidFill>
                  <a:srgbClr val="000000"/>
                </a:solidFill>
                <a:latin typeface="Arial Black"/>
              </a:rPr>
              <a:t>ţă</a:t>
            </a: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 Alexandru</a:t>
            </a: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5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_telefon_casti_2"/>
          <p:cNvPicPr/>
          <p:nvPr/>
        </p:nvPicPr>
        <p:blipFill>
          <a:blip r:embed="rId2"/>
          <a:stretch/>
        </p:blipFill>
        <p:spPr>
          <a:xfrm rot="1275000">
            <a:off x="3428640" y="159984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7000"/>
                            </p:stCondLst>
                            <p:childTnLst>
                              <p:par>
                                <p:cTn id="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3160" y="576360"/>
            <a:ext cx="4343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Samsung ne arat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incearc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i dep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ăş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easc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limitele 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i concuren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ii cu fiecare telefon nou cu camer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foto pe care il scoate pe piat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_meniu_foto_setare_dimensiune_fotografie"/>
          <p:cNvPicPr/>
          <p:nvPr/>
        </p:nvPicPr>
        <p:blipFill>
          <a:blip r:embed="rId2"/>
          <a:stretch/>
        </p:blipFill>
        <p:spPr>
          <a:xfrm>
            <a:off x="5257800" y="2057400"/>
            <a:ext cx="3733920" cy="2449440"/>
          </a:xfrm>
          <a:prstGeom prst="rect">
            <a:avLst/>
          </a:prstGeom>
          <a:ln w="0">
            <a:noFill/>
          </a:ln>
        </p:spPr>
      </p:pic>
    </p:spTree>
  </p:cSld>
  <p:transition spd="slow" advTm="22000">
    <p:split dir="out" orient="horz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594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Prin numele s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u, Omnia, care 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n limba latin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nseamn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TOT sau ORICE, cei de la Samsung vor sa ne comunice c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au creat un telefon care r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spunde la toate dorin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ele 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i nevoile noastre: de la conexiuni de date 3G+, la video call-uri 3G, la GPS, la rulare filme divx si mp3-uri, la browsing internet si multe alte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_samsung"/>
          <p:cNvPicPr/>
          <p:nvPr/>
        </p:nvPicPr>
        <p:blipFill>
          <a:blip r:embed="rId2"/>
          <a:stretch/>
        </p:blipFill>
        <p:spPr>
          <a:xfrm>
            <a:off x="6095880" y="1523880"/>
            <a:ext cx="2828880" cy="285768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split dir="out" orient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aracteristicile tehn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eutate: 125 gra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mensiuni: 112 x 56.9 x 12.5 m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işaj grafic color TFT LCD TouchScreen3.2 inch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40×400 pixeli, 65536 culor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mera foto 5 megapixel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ort WAP / 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luetooth 2.0 + EDR (pentru hands-free, car ki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ectare USB – are conector propriet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samsung-omnia"/>
          <p:cNvPicPr/>
          <p:nvPr/>
        </p:nvPicPr>
        <p:blipFill>
          <a:blip r:embed="rId1"/>
          <a:stretch/>
        </p:blipFill>
        <p:spPr>
          <a:xfrm>
            <a:off x="5334120" y="380880"/>
            <a:ext cx="3047760" cy="177192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split dir="out" orient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9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V O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G/3G+(HSDPA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eSync Push E-mai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Memorie internă: până la 8GB/16G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lot MicroS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stem de operare: Windows Mobile 6.1™ Profess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adband GSM: 850/900/1800/1900 Mh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ngle-band UMTS/HSDPA: 2100 Mh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_telefon_meniu_stylus_2"/>
          <p:cNvPicPr/>
          <p:nvPr/>
        </p:nvPicPr>
        <p:blipFill>
          <a:blip r:embed="rId1"/>
          <a:stretch/>
        </p:blipFill>
        <p:spPr>
          <a:xfrm>
            <a:off x="7128000" y="685800"/>
            <a:ext cx="2009520" cy="285768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split dir="out" orient="horz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5181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Software si Multi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Telefonul vine cu o multitudine de softuri preinstalate din care amintim suita Office Mobile care include Word Mobile,  Excel Mobile si Powerpoint Mobile, doua browsere de internet – Internet Explorer si Opera, Google Maps, Podcasts, DivX Player, Windows Live, Windows Media si multe altel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_telefon_meniu_3"/>
          <p:cNvPicPr/>
          <p:nvPr/>
        </p:nvPicPr>
        <p:blipFill>
          <a:blip r:embed="rId1"/>
          <a:stretch/>
        </p:blipFill>
        <p:spPr>
          <a:xfrm>
            <a:off x="5410080" y="2286000"/>
            <a:ext cx="3505320" cy="251604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split dir="out" orient="horz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1904760"/>
            <a:ext cx="4038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Ave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i destul spa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iu la dispozi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ie (cel pu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in 8 GB) 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i nu va opre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te nimic 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i nimeni sa stoca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i programe 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i fi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iere multimedia pe el (cu licen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ţă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bine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ele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_vizualizare_video"/>
          <p:cNvPicPr/>
          <p:nvPr/>
        </p:nvPicPr>
        <p:blipFill>
          <a:blip r:embed="rId2"/>
          <a:stretch/>
        </p:blipFill>
        <p:spPr>
          <a:xfrm>
            <a:off x="5257800" y="2133720"/>
            <a:ext cx="3657600" cy="20365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split dir="out" orient="horz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18760"/>
            <a:ext cx="495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Pe partea de multimedia, acest telefon vine cu o noutate asigu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râ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nd suport pentru fi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iere divx. Am 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ncarcat pe el si am rulat f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probleme fi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iere video de tip avi cu codare 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n xvid. De altfel, produc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torii spun c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suport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urm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toarele formate: AVI, DivX, H.263, H.264, MP4, WMVsi XviD pe partea video si AAC/AAC+, AMR, MP3, OGG si WMA pe partea de audi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_telefon_radio"/>
          <p:cNvPicPr/>
          <p:nvPr/>
        </p:nvPicPr>
        <p:blipFill>
          <a:blip r:embed="rId2"/>
          <a:stretch/>
        </p:blipFill>
        <p:spPr>
          <a:xfrm>
            <a:off x="5410080" y="762120"/>
            <a:ext cx="3494160" cy="4390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split dir="out" orient="horz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68580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Fotografiere si Film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n general nu sunt un adept al fotografiei f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cute cu telefonul mobil. 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i nici nu voi fi. Motivele sunt c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t se poate de obiective: nu mi-a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pierde timpul s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fotografiez ceva anume, un peisaj sau o persoan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pentru c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fotografiile rezultate nu vor avea o calitate decent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pentru scos pe hartie. 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sta sunt eu, astea sunt convingerile mele si nu prea poti sa ma scoti din e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_meniu_video"/>
          <p:cNvPicPr/>
          <p:nvPr/>
        </p:nvPicPr>
        <p:blipFill>
          <a:blip r:embed="rId2"/>
          <a:stretch/>
        </p:blipFill>
        <p:spPr>
          <a:xfrm>
            <a:off x="5486400" y="3581280"/>
            <a:ext cx="3352680" cy="19940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split dir="out" orient="horz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5440" y="837720"/>
            <a:ext cx="4876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r, 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cerc s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rec peste 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s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desc 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 mod obiectiv: fotografiile f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te cu un telefon pot fi utile 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 sau pentru anumite momente sau pentru postare pe site-uri web unde nu avem nevoie de cine 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e ce rezolu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e. Din acest punct de vedere aceas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tă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mer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e 5 megapixeli cu autofocus ne poate ajuta foarte bin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_meniu_foto_scenes"/>
          <p:cNvPicPr/>
          <p:nvPr/>
        </p:nvPicPr>
        <p:blipFill>
          <a:blip r:embed="rId2"/>
          <a:stretch/>
        </p:blipFill>
        <p:spPr>
          <a:xfrm>
            <a:off x="5257800" y="2362320"/>
            <a:ext cx="3705120" cy="203976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split dir="out" orient="horz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5T14:07:20Z</dcterms:created>
  <dc:creator>Razvan</dc:creator>
  <dc:description/>
  <dc:language>en-US</dc:language>
  <cp:lastModifiedBy>elev</cp:lastModifiedBy>
  <dcterms:modified xsi:type="dcterms:W3CDTF">2011-03-03T14:27:00Z</dcterms:modified>
  <cp:revision>14</cp:revision>
  <dc:subject/>
  <dc:title>Samsung Omnia </dc:title>
</cp:coreProperties>
</file>